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2C45C-4208-45D4-98D0-637C7D3B5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F3202-DBF3-483D-A7FE-421DACD24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59770-E378-4DA4-B079-7C4D38100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3AF1B-59C1-4621-B210-C8E47FA4D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4BBC8-3073-4515-B351-A579876A9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2A9D4-94B8-4A53-996D-40FE9855A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E8AEB-F9C5-4F48-A5A7-DF7E5D3C7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EB046-8A5C-468B-8666-9BA27CFBB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67808-9A94-4C82-86D5-A0723D9AF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F509D-8998-41F2-809B-84BB15715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B46B7-DB19-41AA-8A4C-87167E81F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737AE-FE93-4E57-B97B-2A927CB3B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90EB7-DC27-4A7D-B069-64387F5EB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6D059-8E65-4D74-9D25-D0B9F32AC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5F129-4B75-4AA0-9FF5-02914A755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7121B-05FA-4616-9A24-36CB54E83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5BD26-C8E4-496B-995C-2C759CB8A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6FBF1-70F7-4409-B70B-78792D759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AB0D5-1E19-46FA-BB0A-52182D1DD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DFBD4-E277-48ED-8FEE-E49673FCD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9ED25-D745-4A6E-A0D6-D4AC7856A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948A5-B927-402E-AE0D-957595D73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E59CB-D6E7-48AD-87F2-E735A7831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C5110-F4C9-4042-AD00-0D1557605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7F84D-21A2-450E-BBF9-59D0DBC1724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645A7-216F-4C71-B23F-69808C5167F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port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fixed sliding window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 for operational detai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well on 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ilure to receive ACK is taken as flow control ind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work well on un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not distinguish between lost segment and flow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redit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ontrol on 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ective on un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uples flow control from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ACK without granting credit and vice vers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ctet has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ransport segment has seq number, ack number and window size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sending, seq number is that of first octet in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AN=i, W=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ctets through SN=i-1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expected octet is 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ssion to send additional window of W=j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octets through i+j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Allo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13309"/>
          <a:stretch/>
        </p:blipFill>
        <p:spPr>
          <a:xfrm>
            <a:off x="533520" y="1371600"/>
            <a:ext cx="8001000" cy="51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ing and Receiving Perspecti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7981"/>
          <a:stretch/>
        </p:blipFill>
        <p:spPr>
          <a:xfrm>
            <a:off x="609480" y="1371600"/>
            <a:ext cx="73152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and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each end to now the other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gotiation of optional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iggers allocation of transport entity re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796"/>
          <a:stretch/>
        </p:blipFill>
        <p:spPr>
          <a:xfrm>
            <a:off x="914400" y="1371600"/>
            <a:ext cx="7467480" cy="54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24069"/>
          <a:stretch/>
        </p:blipFill>
        <p:spPr>
          <a:xfrm>
            <a:off x="533520" y="1822320"/>
            <a:ext cx="8001000" cy="35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 Liste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ject with RST (Res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e request until matching ope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S user to notify of pending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place passive open with 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or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rupt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 graceful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 wait state must accept incoming data until FIN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Transport Protocol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enance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Close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, requesting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placed in FIN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and deliver data to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end any mor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IN received, inform user and clos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Not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 TS user Place connection in CLOSE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from TS user and transmit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issues CLOSE primi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l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utstanding data is transmitted from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th sides agree to termin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reliable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using IP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 using LAP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.3 using unacknowledged connectionless L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ash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segments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numbers each octet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are numbered by the first octet number in th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ssion Strate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damaged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fails to arr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does not know of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acknowledge successful recei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umulative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out waiting for ACK trigger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r Val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nderstanding of network behavi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adapt to changing network condi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small leads to unnecessary re-transmis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large and response to lost segments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a bit longer than round trip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ACK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distinguish between ACK of original segment and re-transmitted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ditions may change sudde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lost, segment is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recognize duplic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prior to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mes ACK lost and ACKs dupl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must not get confused with multiple A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 space large enough to not cycle within maximum life of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after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correc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2311"/>
          <a:stretch/>
        </p:blipFill>
        <p:spPr>
          <a:xfrm>
            <a:off x="3378240" y="0"/>
            <a:ext cx="5765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if AN=i, W=0 clos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AN=i, W=j to reopen, but this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thinks window is closed, receiver thinks it is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imer expires, send some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be re-transmission of previous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iable Sequencing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arbitrary leng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virtually 100% reliable delivery by 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liable packet switched network using X.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rame relay using LAPF contro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EEE 802.3 using connection oriented LLC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service is end to end protocol between two systems on sam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way handshak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end SYN, B replies with SY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t SYN handled by re-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lead to duplicate SY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gnore duplicate SYNs once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or delayed data segments can cause connection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 from old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segment numbers fare removed from previou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SYN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ACK to include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1904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5792"/>
          <a:stretch/>
        </p:blipFill>
        <p:spPr>
          <a:xfrm>
            <a:off x="3406680" y="152280"/>
            <a:ext cx="5737320" cy="63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SYN 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0" t="0" r="0" b="18969"/>
          <a:stretch/>
        </p:blipFill>
        <p:spPr>
          <a:xfrm>
            <a:off x="380880" y="1413000"/>
            <a:ext cx="7925040" cy="48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5549"/>
          <a:stretch/>
        </p:blipFill>
        <p:spPr>
          <a:xfrm>
            <a:off x="3794040" y="0"/>
            <a:ext cx="534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5817"/>
          <a:stretch/>
        </p:blipFill>
        <p:spPr>
          <a:xfrm>
            <a:off x="4707000" y="0"/>
            <a:ext cx="4437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in CLOSE WAIT state sends last data segment, followed by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arrives before last data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es last data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sequence number with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waits for all segments before FIN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s of segments and obsolete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explicitly ACK F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ceful Clo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IN i and receive AN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FIN j and send AN 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twice maximum expected segment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ash Reco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restart all state info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s half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de that did not crash still thinks it is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connection using persistence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for ACK for (time out) * (number of retri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expired, close connection and inform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RST i in response to any i segment arri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must decide whether to reconn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s with lost or duplicat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&amp; 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Control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 (UD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communication between pairs of proc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ross variety of reliable and unreliable networks and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abeling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stream pu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CP user can require transmission of all data up to push fla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ceiver will deliver in same mann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waiting for full buff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rgent data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urgent data is upcoming in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r decides how to handl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sues in a Simple Transpro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 and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074"/>
          <a:stretch/>
        </p:blipFill>
        <p:spPr>
          <a:xfrm>
            <a:off x="533520" y="1519200"/>
            <a:ext cx="800100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ms Passed to 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passes some parameters down to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delay/low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throughput/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reliability/high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pairs of 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ort can connec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406440" y="763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stream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ctets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 by credit allocation of number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buffered at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ceful clo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 users issues CLOSE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sets FIN flag on last segment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upt termination by ABORT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tity abandons all attempts to send or receive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ST segment transmit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ementation Policy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ush or close TCP entity transmits at its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uffered at transmi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struct segment per data b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wait for certain amou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bsence of push, deliver data at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deliver as each in order segment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uffer data from more than on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cep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ccept segments in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out of order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all segments within receive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maintains queue of segments transmitted but not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will retransmit if not ACKed in give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rget user specified by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ually host, 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lled a socket in TC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rt represents a particular transport service (TS)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ly one per h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more than one, then usually one of each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cify transport protocol (TCP, UD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 attached network de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an internet, a global internet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medi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22, Requirements for Internet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time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 round trip delay by observing pattern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ime to value somewhat greater than estim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nential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TT Variance Estimation (Jacobson’s algorith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verag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560840" y="0"/>
            <a:ext cx="4745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Jacobson’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c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rcRect l="0" t="0" r="0" b="6874"/>
          <a:stretch/>
        </p:blipFill>
        <p:spPr>
          <a:xfrm>
            <a:off x="4289400" y="0"/>
            <a:ext cx="4854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RTO Backof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ce timeout is probably due to congestion (dropped packet or long round trip), maintaining RTO is not good i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increased each time a segment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= q*R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ly q=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arn’s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egment is re-transmitted, the ACK arriving may b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he first copy of the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TT longer than expec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econd cop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way to t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 measure RTT for re-transmitted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 backoff when re-transmission occu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ackoff RTO until ACK arrives for segment that has not been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ndow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low 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wnd = MIN[credit, cwnd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connection with cwnd=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ment cwnd at each ACK, to some m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windows sizing on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a timeout occu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slow start threshold to half current congestion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sthresh=cwnd/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cwnd = 1 and slow start until cwnd=ssthre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creasing cwnd by 1 for every A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wnd &gt;=ssthresh, increase cwnd by 1 for each RT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service for application level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and duplication control not guarant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network management (Chapter 19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ward data col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ward data disse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-Respo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rcRect l="0" t="0" r="0" b="39534"/>
          <a:stretch/>
        </p:blipFill>
        <p:spPr>
          <a:xfrm>
            <a:off x="1414440" y="2338560"/>
            <a:ext cx="6315120" cy="13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nding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meth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 address ahead of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collection of network device st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ll know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process request to well know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sers employ same transpor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identified by port number or service access point (SA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lso multiplex with respect to network service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ultiplexing a single virtual X.25 circuit to a number of transport service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.25 charges per virtual circuit connection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er transmission delay between transport entities compared with actual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in communication of flow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transmissi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to use timeo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may be controlled becaus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user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transport entity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ults in buffer filling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s that overflow are discar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transport entity will fail to get ACK and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us further adding to incomin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use further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ums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 connections are controlled on aggregate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2T09:06:22Z</dcterms:created>
  <dc:creator>Adrian &amp; Wendy</dc:creator>
  <dc:description/>
  <dc:language>en-US</dc:language>
  <cp:lastModifiedBy>Adrian &amp; Wendy</cp:lastModifiedBy>
  <dcterms:modified xsi:type="dcterms:W3CDTF">1999-11-08T15:02:47Z</dcterms:modified>
  <cp:revision>47</cp:revision>
  <dc:subject/>
  <dc:title>William Stallings Data and Computer Communications</dc:title>
</cp:coreProperties>
</file>